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1D9-9710-48AD-A3D7-6A29244A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6D5-DA54-4E3E-BE8B-441C5EF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B2F-970F-4515-98C1-95737477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91D-5747-497A-89D8-6351B60A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9E47-9C24-45F2-832D-79439D90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60DE-322F-412E-A628-230AEA4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9232-FB18-46DE-8E60-1153EC3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42FC-10C6-4DDB-AD4B-32D70A21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A55-D076-4CE0-BA99-216398E9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883D-6454-47EC-A408-8E16A6FA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423E-EA55-4FB3-9899-3FC6D8F4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514-D53C-43BB-BA10-DC12AA59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54B6-4D98-4AED-B15C-5210273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8B8A-F045-4216-8D56-C2C0362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1EA2-34C2-4C49-9CFC-AD2A570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A458-B556-43E2-AD0D-767A5C1A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D05B-DB1F-4B48-8798-E6C3BD82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2CD-62CB-48A1-BE1F-3F4F1AE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D7C-FADA-4136-BF76-1169C24D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983-652C-465C-A6F9-539E43F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939-043F-4D0F-99B8-837B9A6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435-4653-43D5-AEB2-D06E77F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E21-8C3E-41B3-BE90-8EE1EAEB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C93-9941-4800-8EAD-E837CABA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F8B-7BA4-43F8-ACF8-56A75F12C88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23D5-364C-4A6B-8808-53DFCD7D748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tto.buffalo.edu/registered/ATBasics/Foundation/Laws/atlegislation.php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7971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sistive Technology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ols That Benefit ALL Learn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343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y Lourdes Day, FDLRS Technology Specialist and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cal Assistive Technology Team (LAT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2120" y="58672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lorida Diagnostic and Learning Resources System (FDLRS) is funded through IDEA, Part B and State General Revenue Funds to provide support services to Florida’s Exceptional Student Education Progra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  <a:ea typeface="Arial"/>
              </a:rPr>
              <a:t>AT Referral for ESE Students in Polk or Hardee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 referred by a teacher, therapist or parent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support team (i.e.… teacher, SLP, ESE Facilitator, parent, OT or PT) determines FIRST if the need can be met at the school level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referral is submitted to the Local Assistive Technology Team (LATS)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6800" indent="-4068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LATS will review the case and either request further information from the school or set up an appointment to evaluate the student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The Local Assistive Technology Team (LATS)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Count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oanne Stidham- Speech/Language Pathologis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rrie Prince –Speech/Language Diagnostician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udy Sanders- Occupational Therapist –ES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urdes Day- Technology Specialist-FDLRS Polk/Harde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eresa Hall- District Contac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hannon Robertson-Teacher of the Visually Impaire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en Carey- Occupational Therapist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Nancy Parker- Regional LA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Contacting the LAT tea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LAT team will evaluate, consult and train school staff. Contact them at 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ESE: 863-534-0930 (Joanne Stidham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DLRS: 863-647-4258 (Lourdes Day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 ESE: 863-773-2600 (Teresa Hall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8" name="Picture 4" descr="bd04921_"/>
          <p:cNvPicPr/>
          <p:nvPr/>
        </p:nvPicPr>
        <p:blipFill>
          <a:blip r:embed="rId1"/>
          <a:stretch/>
        </p:blipFill>
        <p:spPr>
          <a:xfrm>
            <a:off x="7315200" y="152280"/>
            <a:ext cx="1320840" cy="176544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95252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onsideration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sk the right questions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ally does the student need to do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 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IEP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 goal must the child meet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T is the student currently using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ccommodations or modification strategies have been tried?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2" name="Picture 4" descr="bd00028_"/>
          <p:cNvPicPr/>
          <p:nvPr/>
        </p:nvPicPr>
        <p:blipFill>
          <a:blip r:embed="rId1"/>
          <a:stretch/>
        </p:blipFill>
        <p:spPr>
          <a:xfrm>
            <a:off x="7848720" y="1447920"/>
            <a:ext cx="1062000" cy="104112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ccommodation vs. Mod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6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ommod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instructed and assessed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Setting, time, length of assignment, 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ener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Modific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WHAT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expected to learn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4</a:t>
            </a:r>
            <a:r>
              <a:rPr b="0" lang="en-US" sz="28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grade math in an Algebra cla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peci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earn more about accommodation strategies-Click below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l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973880" y="121932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od Strategies + AT = Succ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Purchase for ESE Stud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required to provide assistive technology if it is necessary to meet IEP goa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device may go home if the IEP team determines that it is necessary to receive FAPE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ome students may receive funds from private insurance or Medicai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se devices are then the property of the famil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0" name="Picture 4" descr="bd04896_"/>
          <p:cNvPicPr/>
          <p:nvPr/>
        </p:nvPicPr>
        <p:blipFill>
          <a:blip r:embed="rId1"/>
          <a:stretch/>
        </p:blipFill>
        <p:spPr>
          <a:xfrm>
            <a:off x="4419720" y="5867280"/>
            <a:ext cx="1120680" cy="71136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90676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T Acquisition for Non ESE Stud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chool technology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Other school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Grants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Community group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und Raiser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4" name="Picture 5" descr="bd18043_"/>
          <p:cNvPicPr/>
          <p:nvPr/>
        </p:nvPicPr>
        <p:blipFill>
          <a:blip r:embed="rId1"/>
          <a:stretch/>
        </p:blipFill>
        <p:spPr>
          <a:xfrm>
            <a:off x="5867280" y="2666880"/>
            <a:ext cx="2586240" cy="300672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Group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wo Major Groups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ess Technology-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that help a student access instructional materia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42040" indent="-3733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an be used by all stud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lternate keyboar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or filters, software…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ptive Technology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which help an individual move about, communicate or control their environm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42040" indent="-3733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ostly used by students with a disabilit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evices(Communication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123200" indent="-1872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eletypewri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need for AT is determined on a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case by case basi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; and ensures access to a free and appropriate public education as determined by the IEP tea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nefit from: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ite/Low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igh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ite/Low Tech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Lite tech (LoTTIE Kit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ly accessibl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by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 (website for lite tech products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lor filters, reading guid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lectronic dictionar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9917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Definition (AT)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item, piece of equipment or product system, whether acquired commercially or off the shelf, modified, or customized, that is used to increase, maintain, or improve the function capabilities of a child with a disabilit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IDEA Section 60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High Tech Solu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igh Tech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 task specific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r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makes student feel “different” from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s, scanners, voice recognition softwa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Individualized communication de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an Hel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Reading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(Motor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 (Composing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ganizing/Studying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 Acce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munication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elf Help/Daily Living Skil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5964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Evaluation, Practice, Opportunities, and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should be evaluated in the child’s natural setting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uccess of AT comes with daily opportunities to use the 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must be an integral part of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technology needs to be continually monitored for its effectivenes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ebsite Referen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te Technology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Student Needs &amp;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l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Basics and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ssistive Technology Basics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aten.scps.k12.fl.us/resources.html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intro/index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wati.org/index.htm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egislation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Laws/atlegislation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Servi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service that directly assists a child with a disability in the selection, acquisition, or use of an assistive technology device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at this mea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tool or device that a student with a disability uses to do a task that he/she could not do otherwise without it. It can make the task easier, faster or done in a better wa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or some students AT is the only way for them to access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device can be “lite” tech such as a pencil grip or as high tech as a computer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is a tool. It will never replace good teaching. It serves to give struggling students and those with a disability a way to be successful with the curriculum.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o benefits from Assistive Te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a disability from mild to seve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reading, writing, math, communication, vision, hearing, or motor problem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SOL stud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udents with 504 pla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ruggling students who do not qualify for ESE ser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8" name="Picture 4" descr="bd07223_"/>
          <p:cNvPicPr/>
          <p:nvPr/>
        </p:nvPicPr>
        <p:blipFill>
          <a:blip r:embed="rId1"/>
          <a:stretch/>
        </p:blipFill>
        <p:spPr>
          <a:xfrm>
            <a:off x="7086600" y="3200400"/>
            <a:ext cx="1819440" cy="171612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id you know </a:t>
            </a:r>
            <a:r>
              <a:rPr b="0" lang="en-US" sz="3600" spc="-1" strike="noStrike">
                <a:solidFill>
                  <a:srgbClr val="080808"/>
                </a:solidFill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the State of Florida allows a variety of assistive technology tools to be used on the FCAT by students with disabilities?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4400" y="4114800"/>
            <a:ext cx="7391520" cy="1861560"/>
          </a:xfrm>
          <a:prstGeom prst="rect">
            <a:avLst/>
          </a:prstGeom>
          <a:noFill/>
          <a:ln w="41400">
            <a:solidFill>
              <a:srgbClr val="151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se tools must be listed on the students IEP </a:t>
            </a: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be used daily as part of their instructional strategi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egal Responsibilities for E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mandated by state and federal law (IDEA) to determine if a student with a disability needs assistive technolog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fter an AT evaluation, the final determination of AT use is made jointly by the IEP Tea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5" name="Picture 4" descr="bd04900_"/>
          <p:cNvPicPr/>
          <p:nvPr/>
        </p:nvPicPr>
        <p:blipFill>
          <a:blip r:embed="rId1"/>
          <a:stretch/>
        </p:blipFill>
        <p:spPr>
          <a:xfrm>
            <a:off x="7848720" y="5398920"/>
            <a:ext cx="1251000" cy="145908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ech Act (PL 100 407) Technology Related Assistance for Individual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 (PL 101-336) American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IDEA-Individual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with Disabilities Education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or more legislation Information click on the link below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atto.buffalo.edu/registered/ATBasics/Foundation/Laws/atlegislation.ph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9:48:03Z</dcterms:created>
  <dc:creator>lday</dc:creator>
  <dc:description/>
  <dc:language>en-US</dc:language>
  <cp:lastModifiedBy>lourdes.day</cp:lastModifiedBy>
  <dcterms:modified xsi:type="dcterms:W3CDTF">2008-06-18T20:07:08Z</dcterms:modified>
  <cp:revision>143</cp:revision>
  <dc:subject/>
  <dc:title>Assistive Technology</dc:title>
</cp:coreProperties>
</file>